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46.jpeg" ContentType="image/jpeg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43.wmf" ContentType="image/x-wmf"/>
  <Override PartName="/ppt/media/image44.wmf" ContentType="image/x-wmf"/>
  <Override PartName="/ppt/media/image49.jpeg" ContentType="image/jpeg"/>
  <Override PartName="/ppt/media/image50.wmf" ContentType="image/x-wmf"/>
  <Override PartName="/ppt/media/image13.wmf" ContentType="image/x-wmf"/>
  <Override PartName="/ppt/media/image51.wmf" ContentType="image/x-wmf"/>
  <Override PartName="/ppt/media/image40.wmf" ContentType="image/x-wmf"/>
  <Override PartName="/ppt/media/image48.jpeg" ContentType="image/jpeg"/>
  <Override PartName="/ppt/media/image52.wmf" ContentType="image/x-wmf"/>
  <Override PartName="/ppt/media/image41.wmf" ContentType="image/x-wmf"/>
  <Override PartName="/ppt/media/image53.wmf" ContentType="image/x-wmf"/>
  <Override PartName="/ppt/media/image30.wmf" ContentType="image/x-wmf"/>
  <Override PartName="/ppt/media/image42.wmf" ContentType="image/x-wmf"/>
  <Override PartName="/ppt/media/image54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47.jpeg" ContentType="image/jpeg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5E0-3AF6-49E4-94FD-00CC388E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25F-8923-4B54-9F89-37FFD5C8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FCB-EACD-41BB-9452-99E095E6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DCA-9F6C-4262-8347-6C925A1E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6D2-78E9-402D-8F10-308AC775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CFC-63E6-47E3-BA5E-66822597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C8F-1D13-45F3-869E-F6154C01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288-CC6A-4F07-B706-194D7DFF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89B-B5E4-4A17-ADF5-7AF831CC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E8C-FC08-4477-BE68-C67F0A7E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64B-5B90-4E1D-AB28-8F75BC6E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7A9-4701-472B-80E7-28D333AE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12C8-3579-4246-B81B-FF6708FFC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06840" cy="262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UI Gothic"/>
              </a:rPr>
              <a:t>の　り　も　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43280" y="5300280"/>
            <a:ext cx="3456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MS UI Gothic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89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cc"/>
                </a:solidFill>
                <a:latin typeface="Kristen ITC"/>
                <a:ea typeface="Arial"/>
              </a:rPr>
              <a:t>Topic 2 Uni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flipH="1">
            <a:off x="5940360" y="4581360"/>
            <a:ext cx="3060720" cy="2021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340000" y="3645000"/>
            <a:ext cx="396072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smic"/>
              </a:rPr>
              <a:t>Transpo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smic"/>
              <a:ea typeface="Cosmic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600"/>
                            </p:stCondLst>
                            <p:childTnLst>
                              <p:par>
                                <p:cTn id="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10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10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788000" y="105264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はな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292428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flower 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2879640" cy="2868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11280" y="615636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shoes 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450864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くつ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3311280" cy="28670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140360" y="105264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さかな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2781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fish 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457800" cy="257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6156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bak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4437000"/>
            <a:ext cx="41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パン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4140360" cy="2950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932360" y="436572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　ぱ　　　　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88000" y="105264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にく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56536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butcher’s 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2752560" cy="2606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311640" y="436572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お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かし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6156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lolly 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2873160" cy="31701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716360" y="3860640"/>
            <a:ext cx="39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やお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6156360"/>
            <a:ext cx="40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vegetable 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311640" cy="2738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1280" y="2852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book 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0" y="90792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本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6206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　ほ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j0280425" descr=""/>
          <p:cNvPicPr/>
          <p:nvPr/>
        </p:nvPicPr>
        <p:blipFill>
          <a:blip r:embed="rId2"/>
          <a:stretch/>
        </p:blipFill>
        <p:spPr>
          <a:xfrm>
            <a:off x="395280" y="0"/>
            <a:ext cx="3313080" cy="30384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51280" y="1557360"/>
            <a:ext cx="52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レストラ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213372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restaur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2009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46560" y="14842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れ　　　す　　　　と　　　ら　　　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56000" y="4149720"/>
            <a:ext cx="55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きっさて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615636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coffee shop/ca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j0345430" descr=""/>
          <p:cNvPicPr/>
          <p:nvPr/>
        </p:nvPicPr>
        <p:blipFill>
          <a:blip r:embed="rId2"/>
          <a:stretch/>
        </p:blipFill>
        <p:spPr>
          <a:xfrm>
            <a:off x="1476360" y="5084640"/>
            <a:ext cx="727200" cy="981360"/>
          </a:xfrm>
          <a:prstGeom prst="rect">
            <a:avLst/>
          </a:prstGeom>
          <a:ln w="0">
            <a:noFill/>
          </a:ln>
        </p:spPr>
      </p:pic>
      <p:pic>
        <p:nvPicPr>
          <p:cNvPr id="133" name="j0237966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2901960" cy="3289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732720" y="1052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to 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333360"/>
            <a:ext cx="48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行きま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26028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　い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9640" y="2565360"/>
          <a:ext cx="8218440" cy="3097080"/>
        </p:xfrm>
        <a:graphic>
          <a:graphicData uri="http://schemas.openxmlformats.org/drawingml/2006/table">
            <a:tbl>
              <a:tblPr/>
              <a:tblGrid>
                <a:gridCol w="3168720"/>
                <a:gridCol w="5049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omic Sans MS"/>
                          <a:ea typeface="MS PGothic"/>
                        </a:rPr>
                        <a:t>Present negativ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omic Sans MS"/>
                          <a:ea typeface="MS PGothic"/>
                        </a:rPr>
                        <a:t>(not to g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pos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w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neg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didn’t g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421240"/>
            <a:ext cx="1440000" cy="1436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51280" y="270828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  <a:ea typeface="MS PGothic"/>
              </a:rPr>
              <a:t>行き</a:t>
            </a:r>
            <a:r>
              <a:rPr b="0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ませ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371628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  <a:ea typeface="MS PGothic"/>
              </a:rPr>
              <a:t>行き</a:t>
            </a:r>
            <a:r>
              <a:rPr b="0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まし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472428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  <a:ea typeface="MS PGothic"/>
              </a:rPr>
              <a:t>行き</a:t>
            </a:r>
            <a:r>
              <a:rPr b="0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ませんでし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124000" y="333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66"/>
                </a:solidFill>
                <a:latin typeface="Comic Sans MS"/>
                <a:ea typeface="Arial"/>
              </a:rPr>
              <a:t>Sam is going to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670120" cy="3384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48360" y="3573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t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51280" y="692280"/>
            <a:ext cx="3673440" cy="3106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020000" y="306864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  <a:ea typeface="MS PGothic"/>
              </a:rPr>
              <a:t>ま　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924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  <a:ea typeface="MS PGothic"/>
              </a:rPr>
              <a:t>さ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450864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9900"/>
                </a:solidFill>
                <a:latin typeface="Arial"/>
                <a:ea typeface="MS PGothic"/>
              </a:rPr>
              <a:t>さむく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4508640"/>
            <a:ext cx="67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450864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450864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ff00"/>
                </a:solidFill>
                <a:latin typeface="Arial"/>
                <a:ea typeface="MS PGothic"/>
              </a:rPr>
              <a:t>ま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50864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990099"/>
                </a:solidFill>
                <a:latin typeface="Arial"/>
                <a:ea typeface="MS PGothic"/>
              </a:rPr>
              <a:t>いきま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06560" y="566100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Comic Sans MS"/>
                <a:ea typeface="MS PGothic"/>
              </a:rPr>
              <a:t>Som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558972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551664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5589720"/>
            <a:ext cx="183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ff00"/>
                </a:solidFill>
                <a:latin typeface="Comic Sans MS"/>
                <a:ea typeface="MS PGothic"/>
              </a:rPr>
              <a:t>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56360" y="551664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990099"/>
                </a:solidFill>
                <a:latin typeface="Arial"/>
                <a:ea typeface="MS PGothic"/>
              </a:rPr>
              <a:t>いきま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5280" y="2781360"/>
            <a:ext cx="8424720" cy="359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MS PGothic"/>
              </a:rPr>
              <a:t>のりも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MS PGothic"/>
              <a:ea typeface="MS PGothic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 rot="21388200">
            <a:off x="6372360" y="188640"/>
            <a:ext cx="2374920" cy="2019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2058840" cy="1994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 flipH="1">
            <a:off x="5364000" y="4647600"/>
            <a:ext cx="3060720" cy="2020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79280" y="4649760"/>
            <a:ext cx="3210120" cy="22082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067280" y="4581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b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95840" descr=""/>
          <p:cNvPicPr/>
          <p:nvPr/>
        </p:nvPicPr>
        <p:blipFill>
          <a:blip r:embed="rId1"/>
          <a:stretch/>
        </p:blipFill>
        <p:spPr>
          <a:xfrm>
            <a:off x="1547640" y="-22320"/>
            <a:ext cx="5977080" cy="4857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916360" y="530208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バ　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508464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ば　　　　　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419640" y="4653000"/>
            <a:ext cx="26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ship/b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515772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ふ　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j0215769" descr=""/>
          <p:cNvPicPr/>
          <p:nvPr/>
        </p:nvPicPr>
        <p:blipFill>
          <a:blip r:embed="rId1"/>
          <a:stretch/>
        </p:blipFill>
        <p:spPr>
          <a:xfrm>
            <a:off x="2268360" y="60480"/>
            <a:ext cx="4896000" cy="4660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59280" y="1197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ま　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2781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t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3673440" cy="3106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03640" y="436572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み 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6156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y04ohtvm[1]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3313080" cy="28828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067280" y="4076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c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494172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く る 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j0233474" descr=""/>
          <p:cNvPicPr/>
          <p:nvPr/>
        </p:nvPicPr>
        <p:blipFill>
          <a:blip r:embed="rId1"/>
          <a:stretch/>
        </p:blipFill>
        <p:spPr>
          <a:xfrm>
            <a:off x="216000" y="1484280"/>
            <a:ext cx="8928000" cy="2733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203640" y="443700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motorb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530208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バ イ 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87640" y="5084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ば　　   い　　    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j0238294" descr="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47214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51280" y="4653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t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515772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でんし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j0295815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121440" cy="4646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51280" y="436572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tax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5302080"/>
            <a:ext cx="45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タクシ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j0233182" descr=""/>
          <p:cNvPicPr/>
          <p:nvPr/>
        </p:nvPicPr>
        <p:blipFill>
          <a:blip r:embed="rId1"/>
          <a:stretch/>
        </p:blipFill>
        <p:spPr>
          <a:xfrm>
            <a:off x="1258920" y="85680"/>
            <a:ext cx="5977080" cy="45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00360" y="5013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た　　く　　し　　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51280" y="4653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pl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508464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ひこう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j0295832" descr=""/>
          <p:cNvPicPr/>
          <p:nvPr/>
        </p:nvPicPr>
        <p:blipFill>
          <a:blip r:embed="rId1"/>
          <a:stretch/>
        </p:blipFill>
        <p:spPr>
          <a:xfrm>
            <a:off x="2124000" y="0"/>
            <a:ext cx="4548240" cy="4695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16000" y="458136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subway/underground rail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68360" y="5084640"/>
            <a:ext cx="47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ちかて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j0344391" descr=""/>
          <p:cNvPicPr/>
          <p:nvPr/>
        </p:nvPicPr>
        <p:blipFill>
          <a:blip r:embed="rId1"/>
          <a:stretch/>
        </p:blipFill>
        <p:spPr>
          <a:xfrm>
            <a:off x="1835280" y="0"/>
            <a:ext cx="5616360" cy="47577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700360" y="465300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bike/bi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508464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じてんし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j0295852" descr=""/>
          <p:cNvPicPr/>
          <p:nvPr/>
        </p:nvPicPr>
        <p:blipFill>
          <a:blip r:embed="rId1"/>
          <a:stretch/>
        </p:blipFill>
        <p:spPr>
          <a:xfrm>
            <a:off x="1619280" y="77760"/>
            <a:ext cx="5905440" cy="4554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76720" y="4437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rental c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5302080"/>
            <a:ext cx="55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レンタカ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27280" y="5013360"/>
            <a:ext cx="50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れ　　ん　　た　　か　　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j0286973" descr=""/>
          <p:cNvPicPr/>
          <p:nvPr/>
        </p:nvPicPr>
        <p:blipFill>
          <a:blip r:embed="rId1"/>
          <a:stretch/>
        </p:blipFill>
        <p:spPr>
          <a:xfrm>
            <a:off x="2195640" y="0"/>
            <a:ext cx="5040360" cy="4594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35280" y="414972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bullet train/Shinkans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920" y="494172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しんかんせ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j0287342" descr=""/>
          <p:cNvPicPr/>
          <p:nvPr/>
        </p:nvPicPr>
        <p:blipFill>
          <a:blip r:embed="rId1"/>
          <a:stretch/>
        </p:blipFill>
        <p:spPr>
          <a:xfrm rot="403800">
            <a:off x="178920" y="1412640"/>
            <a:ext cx="8675640" cy="26622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843280" y="2565360"/>
            <a:ext cx="4824360" cy="3619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4857840" y="0"/>
            <a:ext cx="4286160" cy="3209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55640" y="18900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33cc33"/>
                </a:solidFill>
                <a:latin typeface="Arial"/>
                <a:ea typeface="MS PGothic"/>
              </a:rPr>
              <a:t>しんかんせ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867280" y="440064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284720" y="187200"/>
            <a:ext cx="424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いえ</a:t>
            </a:r>
            <a:r>
              <a:rPr b="0" lang="en-NZ" sz="9600" spc="-1" strike="noStrike">
                <a:solidFill>
                  <a:srgbClr val="000000"/>
                </a:solidFill>
                <a:latin typeface="Arial"/>
                <a:ea typeface="MS PGothic"/>
              </a:rPr>
              <a:t>/ (</a:t>
            </a: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お</a:t>
            </a:r>
            <a:r>
              <a:rPr b="0" lang="en-NZ" sz="96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う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637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house/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745080" cy="2539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88000" y="414972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え　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6021360"/>
            <a:ext cx="38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railway s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4248000" cy="2906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924360" y="4653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ho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5302080"/>
            <a:ext cx="32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う　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j0299497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4968720" cy="4452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j0295840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2664000" cy="21654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050920" y="33336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66"/>
                </a:solidFill>
                <a:latin typeface="Comic Sans MS"/>
                <a:ea typeface="Arial"/>
              </a:rPr>
              <a:t>Sam is going to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2101680" cy="2664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2340000" y="1484280"/>
            <a:ext cx="2738520" cy="23162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843280" y="3860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ま　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3860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さ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58136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9900"/>
                </a:solidFill>
                <a:latin typeface="Arial"/>
                <a:ea typeface="MS PGothic"/>
              </a:rPr>
              <a:t>さむく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0920" y="458136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458136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16360" y="458136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ff00"/>
                </a:solidFill>
                <a:latin typeface="Arial"/>
                <a:ea typeface="MS PGothic"/>
              </a:rPr>
              <a:t>ま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458136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990099"/>
                </a:solidFill>
                <a:latin typeface="Arial"/>
                <a:ea typeface="MS PGothic"/>
              </a:rPr>
              <a:t>いきま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573408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9900"/>
                </a:solidFill>
                <a:latin typeface="Comic Sans MS"/>
                <a:ea typeface="MS PGothic"/>
              </a:rPr>
              <a:t>Some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79640" y="558972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51280" y="558972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00360" y="573408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ff00"/>
                </a:solidFill>
                <a:latin typeface="Comic Sans MS"/>
                <a:ea typeface="MS PGothic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00720" y="558972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990099"/>
                </a:solidFill>
                <a:latin typeface="Arial"/>
                <a:ea typeface="MS PGothic"/>
              </a:rPr>
              <a:t>いきま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72360" y="3645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b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0" y="9810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ff00"/>
                </a:solidFill>
                <a:latin typeface="Arial"/>
                <a:ea typeface="MS PGothic"/>
              </a:rPr>
              <a:t>バ　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67640" y="692280"/>
            <a:ext cx="129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00ff"/>
                </a:solidFill>
                <a:latin typeface="Arial"/>
                <a:ea typeface="MS PGothic"/>
              </a:rPr>
              <a:t>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16360" y="458136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00"/>
                </a:solidFill>
                <a:latin typeface="Arial"/>
                <a:ea typeface="MS PGothic"/>
              </a:rPr>
              <a:t>バ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6000" y="45086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00ff"/>
                </a:solidFill>
                <a:latin typeface="Arial"/>
                <a:ea typeface="MS PGothic"/>
              </a:rPr>
              <a:t>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573408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MS PGothic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43640" y="558972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46920" y="5661000"/>
            <a:ext cx="21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800080"/>
                </a:solidFill>
                <a:latin typeface="Arial"/>
                <a:ea typeface="MS PGothic"/>
              </a:rPr>
              <a:t>い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0920" y="3333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66"/>
                </a:solidFill>
                <a:latin typeface="Comic Sans MS"/>
                <a:ea typeface="Arial"/>
              </a:rPr>
              <a:t>Sam is going to town </a:t>
            </a:r>
            <a:r>
              <a:rPr b="1" lang="en-NZ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by bus</a:t>
            </a:r>
            <a:r>
              <a:rPr b="1" lang="en-NZ" sz="3200" spc="-1" strike="noStrike">
                <a:solidFill>
                  <a:srgbClr val="ff0066"/>
                </a:solidFill>
                <a:latin typeface="Comic Sans MS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59280" y="350028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10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0323 L 0.22049 0.003 E">
                                      <p:cBhvr>
                                        <p:cTn id="694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050920" y="33336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5050"/>
                </a:solidFill>
                <a:latin typeface="Comic Sans MS"/>
                <a:ea typeface="Arial"/>
              </a:rPr>
              <a:t>Sam is </a:t>
            </a:r>
            <a:r>
              <a:rPr b="1" lang="en-NZ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walking</a:t>
            </a:r>
            <a:r>
              <a:rPr b="1" lang="ja-JP" sz="3200" spc="-1" strike="noStrike">
                <a:solidFill>
                  <a:srgbClr val="ff5050"/>
                </a:solidFill>
                <a:latin typeface="Comic Sans MS"/>
                <a:ea typeface="MS PGothic"/>
              </a:rPr>
              <a:t> </a:t>
            </a:r>
            <a:r>
              <a:rPr b="1" lang="en-NZ" sz="3200" spc="-1" strike="noStrike">
                <a:solidFill>
                  <a:srgbClr val="ff5050"/>
                </a:solidFill>
                <a:latin typeface="Comic Sans MS"/>
                <a:ea typeface="Arial"/>
              </a:rPr>
              <a:t>to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2670120" cy="3384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132000" y="1268280"/>
            <a:ext cx="2738520" cy="2316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708360" y="3716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ま　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3860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さ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458136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9900"/>
                </a:solidFill>
                <a:latin typeface="Arial"/>
                <a:ea typeface="MS PGothic"/>
              </a:rPr>
              <a:t>さむく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0920" y="458136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95640" y="458136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458136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ff00"/>
                </a:solidFill>
                <a:latin typeface="Arial"/>
                <a:ea typeface="MS PGothic"/>
              </a:rPr>
              <a:t>ま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458136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990099"/>
                </a:solidFill>
                <a:latin typeface="Arial"/>
                <a:ea typeface="MS PGothic"/>
              </a:rPr>
              <a:t>いきま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00"/>
                </a:solidFill>
                <a:latin typeface="Comic Sans MS"/>
                <a:ea typeface="MS PGothic"/>
              </a:rPr>
              <a:t>Some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79640" y="558972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558972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360" y="573408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ff00"/>
                </a:solidFill>
                <a:latin typeface="Comic Sans MS"/>
                <a:ea typeface="MS PGothic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00720" y="558972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990099"/>
                </a:solidFill>
                <a:latin typeface="Arial"/>
                <a:ea typeface="MS PGothic"/>
              </a:rPr>
              <a:t>いきま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558972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00"/>
                </a:solidFill>
                <a:latin typeface="Comic Sans MS"/>
                <a:ea typeface="MS PGothic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j0188677" descr=""/>
          <p:cNvPicPr/>
          <p:nvPr/>
        </p:nvPicPr>
        <p:blipFill>
          <a:blip r:embed="rId3"/>
          <a:stretch/>
        </p:blipFill>
        <p:spPr>
          <a:xfrm>
            <a:off x="6877080" y="1341360"/>
            <a:ext cx="1717560" cy="244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300720" y="3716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walk/on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45080" y="692280"/>
            <a:ext cx="26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ff00"/>
                </a:solidFill>
                <a:latin typeface="Arial"/>
                <a:ea typeface="MS PGothic"/>
              </a:rPr>
              <a:t>あるい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43280" y="465300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あるい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33360"/>
            <a:ext cx="50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66"/>
                </a:solidFill>
                <a:latin typeface="Comic Sans MS"/>
                <a:ea typeface="Arial"/>
              </a:rPr>
              <a:t>Sam is going to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0323 L 0.22049 0.003 E">
                                      <p:cBhvr>
                                        <p:cTn id="763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72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66"/>
                </a:solidFill>
                <a:latin typeface="Comic Sans MS"/>
                <a:ea typeface="MS PGothic"/>
              </a:rPr>
              <a:t>Speaking 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47720" cy="1866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0" y="5229360"/>
            <a:ext cx="1212840" cy="1628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7345440" y="5281560"/>
            <a:ext cx="1798560" cy="1576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2205000"/>
            <a:ext cx="19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Comic Sans MS"/>
                <a:ea typeface="MS PGothic"/>
              </a:rPr>
              <a:t>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92360" y="2060640"/>
            <a:ext cx="67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206064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40000" y="220500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ff00"/>
                </a:solidFill>
                <a:latin typeface="Comic Sans MS"/>
                <a:ea typeface="MS PGothic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2720" y="213372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990099"/>
                </a:solidFill>
                <a:latin typeface="Arial"/>
                <a:ea typeface="MS PGothic"/>
              </a:rPr>
              <a:t>いきま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11640" y="220500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MS PGothic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56360" y="206064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294080"/>
            <a:ext cx="19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Comic Sans MS"/>
                <a:ea typeface="MS PGothic"/>
              </a:rPr>
              <a:t>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4149720"/>
            <a:ext cx="67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92360" y="414972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MS PGothic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40000" y="429264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ff00"/>
                </a:solidFill>
                <a:latin typeface="Comic Sans MS"/>
                <a:ea typeface="MS PGothic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80000" y="422100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990099"/>
                </a:solidFill>
                <a:latin typeface="Arial"/>
                <a:ea typeface="MS PGothic"/>
              </a:rPr>
              <a:t>いきま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4221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00"/>
                </a:solidFill>
                <a:latin typeface="Comic Sans MS"/>
                <a:ea typeface="MS PGothic"/>
              </a:rPr>
              <a:t>あるい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306864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8000"/>
                </a:solidFill>
                <a:latin typeface="Comic Sans MS"/>
                <a:ea typeface="MS PGothic"/>
              </a:rPr>
              <a:t>Someo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 goes (is going) to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 </a:t>
            </a:r>
            <a:r>
              <a:rPr b="0" i="1" lang="en-NZ" sz="2800" spc="-1" strike="noStrike">
                <a:solidFill>
                  <a:srgbClr val="00ff00"/>
                </a:solidFill>
                <a:latin typeface="Comic Sans MS"/>
                <a:ea typeface="MS PGothic"/>
              </a:rPr>
              <a:t>somewher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 by </a:t>
            </a:r>
            <a:r>
              <a:rPr b="0" i="1" lang="en-NZ" sz="2800" spc="-1" strike="noStrike">
                <a:solidFill>
                  <a:srgbClr val="ffff00"/>
                </a:solidFill>
                <a:latin typeface="Comic Sans MS"/>
                <a:ea typeface="MS PGothic"/>
              </a:rPr>
              <a:t>transport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1577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8000"/>
                </a:solidFill>
                <a:latin typeface="Comic Sans MS"/>
                <a:ea typeface="MS PGothic"/>
              </a:rPr>
              <a:t>Someo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  <a:ea typeface="MS PGothic"/>
              </a:rPr>
              <a:t>walk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 (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  <a:ea typeface="MS PGothic"/>
              </a:rPr>
              <a:t>is walk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) to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 </a:t>
            </a:r>
            <a:r>
              <a:rPr b="0" i="1" lang="en-NZ" sz="2800" spc="-1" strike="noStrike">
                <a:solidFill>
                  <a:srgbClr val="00ff00"/>
                </a:solidFill>
                <a:latin typeface="Comic Sans MS"/>
                <a:ea typeface="MS PGothic"/>
              </a:rPr>
              <a:t>somewher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71640" y="2708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119700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学　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98100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　がっ　　　　　　　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57320"/>
            <a:ext cx="3745080" cy="2666880"/>
          </a:xfrm>
          <a:prstGeom prst="rect">
            <a:avLst/>
          </a:prstGeom>
          <a:ln w="0">
            <a:noFill/>
          </a:ln>
        </p:spPr>
      </p:pic>
      <p:pic>
        <p:nvPicPr>
          <p:cNvPr id="64" name="gkrxw_m3[1]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3095640" cy="2801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595008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422100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きょうし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kjvzlja[1]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896000" cy="3713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0920" y="5013360"/>
            <a:ext cx="59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グラウン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4653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ぐ　　　　ら　　　　　う　　　ん　　　　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3789360"/>
            <a:ext cx="20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gr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72000" y="1052640"/>
            <a:ext cx="54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としょか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2565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3924360" cy="2689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280" y="595008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primar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65300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小学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9320" y="4149720"/>
            <a:ext cx="351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　しょう　　　がっ　　　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vqins3ab[1]" descr=""/>
          <p:cNvPicPr/>
          <p:nvPr/>
        </p:nvPicPr>
        <p:blipFill>
          <a:blip r:embed="rId2"/>
          <a:stretch/>
        </p:blipFill>
        <p:spPr>
          <a:xfrm>
            <a:off x="179280" y="3427560"/>
            <a:ext cx="3816360" cy="25416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j0345883" descr=""/>
          <p:cNvPicPr/>
          <p:nvPr/>
        </p:nvPicPr>
        <p:blipFill>
          <a:blip r:embed="rId1"/>
          <a:stretch/>
        </p:blipFill>
        <p:spPr>
          <a:xfrm>
            <a:off x="0" y="3645000"/>
            <a:ext cx="3889440" cy="2576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256536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junior high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615636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high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76500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中学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6206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　ちゅう　　がっ　　　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32360" y="350028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こう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77080" y="3357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　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5157720"/>
            <a:ext cx="56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高とう学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5013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　こ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　　がっ　　　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gmfdmgnt[1]" descr=""/>
          <p:cNvPicPr/>
          <p:nvPr/>
        </p:nvPicPr>
        <p:blipFill>
          <a:blip r:embed="rId2"/>
          <a:stretch/>
        </p:blipFill>
        <p:spPr>
          <a:xfrm>
            <a:off x="539640" y="1260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00720" y="119700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大　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98100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　だい　　　　　　　が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4869000"/>
            <a:ext cx="65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Sports centre/ gymnas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30208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たいいくか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j0345643" descr=""/>
          <p:cNvPicPr/>
          <p:nvPr/>
        </p:nvPicPr>
        <p:blipFill>
          <a:blip r:embed="rId1"/>
          <a:stretch/>
        </p:blipFill>
        <p:spPr>
          <a:xfrm>
            <a:off x="0" y="0"/>
            <a:ext cx="3419640" cy="3319560"/>
          </a:xfrm>
          <a:prstGeom prst="rect">
            <a:avLst/>
          </a:prstGeom>
          <a:ln w="0">
            <a:noFill/>
          </a:ln>
        </p:spPr>
      </p:pic>
      <p:pic>
        <p:nvPicPr>
          <p:cNvPr id="93" name="js2meefq[1]" descr=""/>
          <p:cNvPicPr/>
          <p:nvPr/>
        </p:nvPicPr>
        <p:blipFill>
          <a:blip r:embed="rId2"/>
          <a:stretch/>
        </p:blipFill>
        <p:spPr>
          <a:xfrm>
            <a:off x="3635280" y="2708280"/>
            <a:ext cx="5329440" cy="2403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706920" y="1125360"/>
            <a:ext cx="54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ようふく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278136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clothes 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436572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  <a:ea typeface="MS PGothic"/>
              </a:rPr>
              <a:t>くすり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6156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pharm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j0228965" descr=""/>
          <p:cNvPicPr/>
          <p:nvPr/>
        </p:nvPicPr>
        <p:blipFill>
          <a:blip r:embed="rId1"/>
          <a:stretch/>
        </p:blipFill>
        <p:spPr>
          <a:xfrm>
            <a:off x="468360" y="0"/>
            <a:ext cx="3313080" cy="2994120"/>
          </a:xfrm>
          <a:prstGeom prst="rect">
            <a:avLst/>
          </a:prstGeom>
          <a:ln w="0">
            <a:noFill/>
          </a:ln>
        </p:spPr>
      </p:pic>
      <p:pic>
        <p:nvPicPr>
          <p:cNvPr id="99" name="j0280991" descr=""/>
          <p:cNvPicPr/>
          <p:nvPr/>
        </p:nvPicPr>
        <p:blipFill>
          <a:blip r:embed="rId2"/>
          <a:stretch/>
        </p:blipFill>
        <p:spPr>
          <a:xfrm>
            <a:off x="468360" y="3370320"/>
            <a:ext cx="3598920" cy="30099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0:42:40Z</dcterms:created>
  <dc:creator>Ministry of Education</dc:creator>
  <dc:description/>
  <dc:language>en-US</dc:language>
  <cp:lastModifiedBy>Ministry of Education</cp:lastModifiedBy>
  <dcterms:modified xsi:type="dcterms:W3CDTF">2009-08-13T05:03:42Z</dcterms:modified>
  <cp:revision>25</cp:revision>
  <dc:subject/>
  <dc:title>Slide 1</dc:title>
</cp:coreProperties>
</file>